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58058C-3E2B-4373-B8E2-0D38806F2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2BCEE-9472-4074-A043-3E5724438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818469-2298-4848-B882-0F52853D0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6C377-B4F6-4FF2-937B-F42BCCCB0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3CF37-1827-4A48-A91E-9176881D8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D55EB-696D-4FE9-8552-AFF727B8F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595B2-B4CC-4A85-9AAB-4BBABA919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C7B6A-C1C9-464D-B0B1-546B875E2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130B5-ADD0-41CC-BEC7-F3F7D399B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BF03F-D3CD-4FA8-96F7-1133460AB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97459-2F33-4D82-B283-A163AF7A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D663C-0136-4AFF-A990-C94123AA5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FB7D-9360-4C75-BE3F-8F4F079264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ECNICO EN PUERICULTURA</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84872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ERFIL DELPERSONAL DOCENTE</a:t>
            </a:r>
            <a:br>
              <a:rPr sz="2400"/>
            </a:br>
            <a:br>
              <a:rPr sz="2400"/>
            </a:br>
            <a:r>
              <a:rPr b="0" lang="en-US" sz="2400" spc="-1" strike="noStrike">
                <a:solidFill>
                  <a:srgbClr val="000000"/>
                </a:solidFill>
                <a:latin typeface="Times New Roman"/>
              </a:rPr>
              <a:t>PROFESIONALES EN LAS AREAS DE PEDAGOGIA, EDUCACION PREESCOLAR, PSICOLOGIA INFANTIL, NUTRICION Y MEDICINA, CON VOCACION DE IMPARTIR Y COMPARTIR SUS CONOCIMIENTOS PARA FORMAR TECNICOS CAPACITADOS EN LA FORMACION INTEGRAL DEL INF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609480"/>
            <a:ext cx="7924680" cy="464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RUCTURA CURRICULAR</a:t>
            </a:r>
            <a:br>
              <a:rPr sz="2400"/>
            </a:br>
            <a:br>
              <a:rPr sz="2400"/>
            </a:br>
            <a:r>
              <a:rPr b="0" lang="en-US" sz="2400" spc="-1" strike="noStrike">
                <a:solidFill>
                  <a:srgbClr val="000000"/>
                </a:solidFill>
                <a:latin typeface="Times New Roman"/>
              </a:rPr>
              <a:t>EL PLAN DE ESTUDIOS ESTA DIVIDIDOEN 2 AREAS, CORRESPONDIENDO LA LLAMADA DE TRNCO COMUN Y LAS TECNOLOGICAS QUE A SU VEZ SE SUBDIVIDEN EN PEDAGOGICAS Y DE SALUD EL PLAN DE ESTUDIOS SE ENCUENTRA ORGANIZADO POR MATERIAS SERIADAS CON LA CANTIDAD DETERMINADA DE HORAS CLASE TANTO TEORICAS COMO PRACTICAS CONTANDO CON LA ASIGNACION DE CREDITOS PARA CADA U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09480"/>
            <a:ext cx="792468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CO COMUN</a:t>
            </a:r>
            <a:br>
              <a:rPr sz="2400"/>
            </a:br>
            <a:br>
              <a:rPr sz="2400"/>
            </a:br>
            <a:r>
              <a:rPr b="0" lang="en-US" sz="2400" spc="-1" strike="noStrike">
                <a:solidFill>
                  <a:srgbClr val="000000"/>
                </a:solidFill>
                <a:latin typeface="Times New Roman"/>
              </a:rPr>
              <a:t>MATEMATIC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QUIM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S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ALLER DE LECTURA Y REDACC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GL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IOLOGI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TRODUCCION A LAS CIENCIAS SOCIALE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ETODOS DE INVESTIGAC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T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STRUCTURAS SOCIOECONOMICAS DE MEXIC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ISTORIA DE MEXIC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ILOSOF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69608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NOLOGICAS PEDAGOGICAS</a:t>
            </a:r>
            <a:br>
              <a:rPr sz="2400"/>
            </a:br>
            <a:br>
              <a:rPr sz="2400"/>
            </a:br>
            <a:r>
              <a:rPr b="0" lang="en-US" sz="2400" spc="-1" strike="noStrike">
                <a:solidFill>
                  <a:srgbClr val="000000"/>
                </a:solidFill>
                <a:latin typeface="Times New Roman"/>
              </a:rPr>
              <a:t>PSICOLOGIA INFANTI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IBUJ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DUCACION PREESCOLAR</a:t>
            </a:r>
            <a:r>
              <a:rPr b="0" lang="en-US" sz="2400" spc="-1" strike="noStrike">
                <a:solidFill>
                  <a:srgbClr val="000000"/>
                </a:solidFill>
                <a:latin typeface="Times New Roman"/>
              </a:rPr>
              <a:t>	</a:t>
            </a:r>
            <a:r>
              <a:rPr b="0" lang="en-US" sz="2400" spc="-1" strike="noStrike">
                <a:solidFill>
                  <a:srgbClr val="000000"/>
                </a:solidFill>
                <a:latin typeface="Times New Roman"/>
              </a:rPr>
              <a:t>LUDOLOGI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RACTICAS DE CAMPO</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TIVIDADES MUSICALES, TEATRO Y LITERATURA INFANTI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PEDAGOGIA Y DIDACT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ERAPIA OCUPACIONAL INFANTI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CNOLOGICAS DE SALUD</a:t>
            </a:r>
            <a:br>
              <a:rPr sz="2400"/>
            </a:br>
            <a:br>
              <a:rPr sz="2400"/>
            </a:br>
            <a:r>
              <a:rPr b="0" lang="en-US" sz="2400" spc="-1" strike="noStrike">
                <a:solidFill>
                  <a:srgbClr val="000000"/>
                </a:solidFill>
                <a:latin typeface="Times New Roman"/>
              </a:rPr>
              <a:t>PUERICULTUR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LUD PUBLIC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ATOMIA Y FISIOLOGIA</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UTRICI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EDIATRIA CLINICA</a:t>
            </a:r>
            <a:r>
              <a:rPr b="0" lang="en-US" sz="2400" spc="-1" strike="noStrike">
                <a:solidFill>
                  <a:srgbClr val="000000"/>
                </a:solidFill>
                <a:latin typeface="Times New Roman"/>
              </a:rPr>
              <a:t>	</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TERAPIA RECREATIVA INFANTIL</a:t>
            </a:r>
            <a:br>
              <a:rPr sz="2400"/>
            </a:br>
            <a:r>
              <a:rPr b="0" lang="en-US" sz="2400" spc="-1" strike="noStrike">
                <a:solidFill>
                  <a:srgbClr val="000000"/>
                </a:solidFill>
                <a:latin typeface="Times New Roman"/>
              </a:rPr>
              <a:t>PUERICULTURA SOCIAL</a:t>
            </a:r>
            <a:br>
              <a:rPr sz="2400"/>
            </a:br>
            <a:r>
              <a:rPr b="0" lang="en-US" sz="2400" spc="-1" strike="noStrike">
                <a:solidFill>
                  <a:srgbClr val="000000"/>
                </a:solidFill>
                <a:latin typeface="Times New Roman"/>
              </a:rPr>
              <a:t>ORGANIZACIÓN Y ADMINISTRACION DE INSTITUCIONES DE ATENCION AL NIÑ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84872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NCULACION DEL TECNICO PUERICULTISTA</a:t>
            </a:r>
            <a:br>
              <a:rPr sz="2400"/>
            </a:br>
            <a:br>
              <a:rPr sz="2400"/>
            </a:br>
            <a:r>
              <a:rPr b="0" lang="en-US" sz="2400" spc="-1" strike="noStrike">
                <a:solidFill>
                  <a:srgbClr val="000000"/>
                </a:solidFill>
                <a:latin typeface="Times New Roman"/>
              </a:rPr>
              <a:t>EL PROFESIONISTA SE RELACIONA CON EL PERSONAL MULTIDISCIPLINARIO DE LAS DIFERENTES INSTITUCIONES QUE PRESTAN ATENCION AL NIÑO COMO SON: MEDICOS, PSICOLOGOS, PEDAGOGOS, EDUCADORES, ENFERMERAS, TRABAJADORES SOCIALES, ASISTENTES EDUCATIVOS, TERAPISTA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8487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MPOS DE TRABAJO</a:t>
            </a:r>
            <a:br>
              <a:rPr sz="2400"/>
            </a:br>
            <a:br>
              <a:rPr sz="2400"/>
            </a:br>
            <a:r>
              <a:rPr b="0" lang="en-US" sz="2400" spc="-1" strike="noStrike">
                <a:solidFill>
                  <a:srgbClr val="000000"/>
                </a:solidFill>
                <a:latin typeface="Times New Roman"/>
              </a:rPr>
              <a:t>CENTROS DE DESARROLLO INFANTIL, JARDINE DE NIÑOS, ESTANCIAS DE BIENESTAR INFANTIL, GUARDERIAS, CASA CUNA, CASA HOGAR, ORFANATOS, HOSPITALES PEDIATRICOS, HOSPITALES MATERNO-INFANTIL, CENTROS DE REHABILITACION INFANTIL, CIRCULOS INFANTILES Y CENTROS DE ESTIMULACION INFANT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09120"/>
            <a:ext cx="792468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UNCIONES</a:t>
            </a:r>
            <a:br>
              <a:rPr sz="2400"/>
            </a:br>
            <a:br>
              <a:rPr sz="2400"/>
            </a:br>
            <a:r>
              <a:rPr b="0" lang="en-US" sz="2400" spc="-1" strike="noStrike">
                <a:solidFill>
                  <a:srgbClr val="000000"/>
                </a:solidFill>
                <a:latin typeface="Times New Roman"/>
              </a:rPr>
              <a:t>DESARROLLO DE PLANES Y PROGRAMAS DE ATENCION Y PSICOPEDAGOGIA APLICANDO LAS NORMAS GENERALES DE LA EDUCACION.</a:t>
            </a:r>
            <a:br>
              <a:rPr sz="2400"/>
            </a:br>
            <a:r>
              <a:rPr b="0" lang="en-US" sz="2400" spc="-1" strike="noStrike">
                <a:solidFill>
                  <a:srgbClr val="000000"/>
                </a:solidFill>
                <a:latin typeface="Times New Roman"/>
              </a:rPr>
              <a:t>ELABORA Y APLICA PLANES Y PROGRAMAS DE ESTIMULACION EN EL DESARROLLO DEL NIÑO PARA QUE LOGRE UNA MADUREZ OPTIMA QUE LE PERMITA SATISFACER SUS NECESIDADES BASICAS.</a:t>
            </a:r>
            <a:br>
              <a:rPr sz="2400"/>
            </a:br>
            <a:r>
              <a:rPr b="0" lang="en-US" sz="2400" spc="-1" strike="noStrike">
                <a:solidFill>
                  <a:srgbClr val="000000"/>
                </a:solidFill>
                <a:latin typeface="Times New Roman"/>
              </a:rPr>
              <a:t>PROMUEVE Y FOMENTA LA SALUD MEDIANTE LA REALIZACION DE ACTIVIDADES ACORDES A LAS POLITICAS DEL SECTOR SALUD A FIN DE DISMINUIR LA INCIDENCIA DE ENFERMEDADES INFANTI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84872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LOSOFIA EN PUERICULTURA</a:t>
            </a:r>
            <a:br>
              <a:rPr sz="2400"/>
            </a:br>
            <a:br>
              <a:rPr sz="2400"/>
            </a:br>
            <a:r>
              <a:rPr b="0" lang="en-US" sz="2400" spc="-1" strike="noStrike">
                <a:solidFill>
                  <a:srgbClr val="000000"/>
                </a:solidFill>
                <a:latin typeface="Times New Roman"/>
              </a:rPr>
              <a:t>EL FUTURO DEL PAIS RADICA EN LA NIÑEZ POR ELLO ES IMPORTANTE ATENDER A TIEMPO LOS PROBLEMAS RELACIONADOS CON EL DESARROLLO Y EDUCACION DE LOS NIÑOS DESDE LAS ETAPAS TEMPRANAS Y ASI LOGRAR UN DESARROLLO INTEG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10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FESIONAL QUE CONOCE TODOS LOS ASPECTOS BIOLOGICOS , PSICOLOGICOS Y SOCIALES QUE INFLUYEN EN EL DESARROLLO INTEGRAL DEL NIÑO, ESTE CONOCIMIENTO ABARCA 5 ETAPAS QUE S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228600"/>
            <a:ext cx="792468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PRECONCEPCIONAL</a:t>
            </a:r>
            <a:br>
              <a:rPr sz="2400"/>
            </a:br>
            <a:br>
              <a:rPr sz="2400"/>
            </a:br>
            <a:r>
              <a:rPr b="0" lang="en-US" sz="2400" spc="-1" strike="noStrike">
                <a:solidFill>
                  <a:srgbClr val="000000"/>
                </a:solidFill>
                <a:latin typeface="Times New Roman"/>
              </a:rPr>
              <a:t>ESTUDIA LAS CARACTERISTICAS Y CUIDADOS DE SALUD DE LOS FUTUROS PADRES COMO: HERENCIA, SALUD REPRODUCTIVA, PLANIFICACION FAMILIAR,EDUCACION SEXUAL, PATERNIDAD Y MATERNIDAD RESPONSABLE, FAMILIA, ET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440" y="1066680"/>
            <a:ext cx="7620120" cy="426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CONCEPCIONAL</a:t>
            </a:r>
            <a:br>
              <a:rPr sz="3600"/>
            </a:br>
            <a:br>
              <a:rPr sz="3600"/>
            </a:br>
            <a:r>
              <a:rPr b="0" lang="en-US" sz="2400" spc="-1" strike="noStrike">
                <a:solidFill>
                  <a:srgbClr val="000000"/>
                </a:solidFill>
                <a:latin typeface="Times New Roman"/>
              </a:rPr>
              <a:t>ESTUDIA LOS FENOMENOS BIOLOGICOS QUE SUCEDEN EN LA UNION DEL OVULO CON EL ESPERMATOZOIDE COMO: ANATOMIA Y FISIOLOGIA DE LOS APARATOS REPRODUCTORES MASCULINO Y FEMENINO, ASI COMO EL PROCESO DE FECUND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1760" y="1143000"/>
            <a:ext cx="784836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PRENATAL</a:t>
            </a:r>
            <a:br>
              <a:rPr sz="3600"/>
            </a:br>
            <a:br>
              <a:rPr sz="2400"/>
            </a:br>
            <a:br>
              <a:rPr sz="2400"/>
            </a:br>
            <a:r>
              <a:rPr b="0" lang="en-US" sz="2400" spc="-1" strike="noStrike">
                <a:solidFill>
                  <a:srgbClr val="000000"/>
                </a:solidFill>
                <a:latin typeface="Times New Roman"/>
              </a:rPr>
              <a:t>ESTUDIA LOS CAMBIOS QUE OCURREN EN EL ORGANISMO MATERNO EN EL PROCESO DEL DESARROLLO DEL PRODUCTO DURANTE EL EMBARAZO</a:t>
            </a:r>
            <a:br>
              <a:rPr sz="36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NATAL</a:t>
            </a:r>
            <a:br>
              <a:rPr sz="3600"/>
            </a:br>
            <a:br>
              <a:rPr sz="3600"/>
            </a:br>
            <a:r>
              <a:rPr b="0" lang="en-US" sz="2400" spc="-1" strike="noStrike">
                <a:solidFill>
                  <a:srgbClr val="000000"/>
                </a:solidFill>
                <a:latin typeface="Times New Roman"/>
              </a:rPr>
              <a:t>ESTUDIA TODOS LOS PROCESOS QUE OCURREN DURANTE EL PARTO Y PUERPERIO</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APA POSNATAL</a:t>
            </a:r>
            <a:br>
              <a:rPr sz="3600"/>
            </a:br>
            <a:br>
              <a:rPr sz="3600"/>
            </a:br>
            <a:r>
              <a:rPr b="0" lang="en-US" sz="2400" spc="-1" strike="noStrike">
                <a:solidFill>
                  <a:srgbClr val="000000"/>
                </a:solidFill>
                <a:latin typeface="Times New Roman"/>
              </a:rPr>
              <a:t>ESTUDIA TODOS LOS CAMBIOS FISICOS, PSICOLOGICOS Y SOCIALES DESDE LA ETAPA NEONATAL HASTA LA ADOLESC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480"/>
            <a:ext cx="7924680" cy="518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ÁTICA DE LA CARRERA</a:t>
            </a:r>
            <a:br>
              <a:rPr sz="2400"/>
            </a:br>
            <a:br>
              <a:rPr sz="2400"/>
            </a:br>
            <a:r>
              <a:rPr b="0" lang="en-US" sz="2400" spc="-1" strike="noStrike">
                <a:solidFill>
                  <a:srgbClr val="000000"/>
                </a:solidFill>
                <a:latin typeface="Times New Roman"/>
              </a:rPr>
              <a:t>POR SER UNA CARRERA RELATIVAMENTE NUEVA Y DESCONOCIDA PARA MUCHOS, LOS CAMPOS DE ACCION SON LIMITADOS Y MINIMIZADOS, POR ELLO EN QUERETARO SE REQUIERE QUE ELSECTOR SALUD ASIMILE EN SUS INSTITUCIONES A NUESTRAS EGRESADAS EN LAS DIVERSAS AREAS DONDE ELLASPUEDAN LABORAR YA QUE HAY UN DESPERDICIO DE RECURSOS HUMANOS CAPACITADOS TANTO EN EL SECTOR SALUD COMO EN EL EDUCA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848720" cy="457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BJETIVO GENERAL DE LA CARRERA</a:t>
            </a:r>
            <a:br>
              <a:rPr sz="2400"/>
            </a:br>
            <a:br>
              <a:rPr sz="2400"/>
            </a:br>
            <a:r>
              <a:rPr b="0" lang="en-US" sz="2400" spc="-1" strike="noStrike">
                <a:solidFill>
                  <a:srgbClr val="000000"/>
                </a:solidFill>
                <a:latin typeface="Times New Roman"/>
              </a:rPr>
              <a:t>LA CARRERA DE PUERICULTURA DEL BACHILLERATO TECNOLOGICO EN EL NIVEL MEDIO SUPERIOR TIENE COMO OBJETIVO FORMAR TECNICOS QUE CUENTEN CON UNA PREPARACION PROPEDEUTICA QUE LES PERMITA CONTINUAR ESTUDIOS A NIVEL LICENCIATURA EN EL AREA QUIMICO-BIOLOG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22:54:03Z</dcterms:created>
  <dc:creator>B.SILVIA TORRES GUERRERO</dc:creator>
  <dc:description/>
  <dc:language>en-US</dc:language>
  <cp:lastModifiedBy>B.SILVIA TORRES GUERRERO</cp:lastModifiedBy>
  <dcterms:modified xsi:type="dcterms:W3CDTF">2007-02-01T03:12:32Z</dcterms:modified>
  <cp:revision>2</cp:revision>
  <dc:subject/>
  <dc:title>TECNICO EN PUERICULTURA</dc:title>
</cp:coreProperties>
</file>